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move the slide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D03D3-B7A9-4125-82E4-E8578CE74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47D15-691B-4C50-A2BF-7A2E4184C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C3A80D4-0770-4148-96C2-A8BC0F8E8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15322AE-545A-4EEC-B5BB-D77B65D0BD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DBBE4-56AB-4D58-8511-00BCFA9CB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D6332F8D-317C-4BBC-81A2-5237D7E54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E8FD1-E3E1-4F78-816C-891AF8A3D3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4689-8416-4FC9-9C5A-B915561200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A740D07-2E44-45C8-A3D7-6BC363E70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6465707-FE99-450F-B1DD-406E00260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0BAB-BB24-41E5-B16E-F2D7B2873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57EA411-6307-4037-AA1E-3CA136DCE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ABABA8E-ACC2-4303-AAF1-73AD7DC187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573D-5BF7-4F62-B96E-673AF9102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06EE828-132A-4D5D-B371-429167E25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64990B0-5285-4F3E-B451-2A1D953A9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5D0DE-AD10-4DBB-9200-6BA0489FD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E8CE1-5D4B-42D4-AB4E-42D3E2066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BAB2D-3ED4-4FCA-A8A5-33132549F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892AA-DAC4-46C0-B2A5-FA9E7FBF1F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6C525-4223-40A6-A687-E58A5B1B8A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D16E2-0DC8-443C-8ED8-B7A21CA06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709B1D2-BABF-446B-82F7-F02B450C12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F82AB7C-59B1-415C-B7A6-47894593C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1C97A-2128-45EB-B886-A0633B70F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F10F2-0D0C-4926-86AB-57FFD3EC4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755E7-DA89-420A-B74C-EE0DBD8428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5E423-A361-42A2-A215-EFADB10F9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192BD-A28A-4E3F-B2A4-DBD0014003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4005-0DE9-4E0D-B6E7-3863AB599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3EE2-E1BF-4187-867C-1F6F8C74A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22B0-70ED-4366-918A-B93F1151F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6F238-D51D-459E-820C-FD3BA0874D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02A1-C26C-4273-811E-694628C5E5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9938-CA65-4164-9BA4-EE0059235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6F80677-278F-4367-AC5E-8E7EE6AA1F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7A9328A-263F-472F-9F71-9CF48AB5B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41892-4E16-4572-B533-4A28B2FAF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13EED-1288-47A4-8808-1E6FA11189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AC55DB3-342C-4AB3-A6AF-11C373DAE4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883BA4C-653E-4151-8581-37795EC36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4F11C-6EE3-4B59-B312-B6736D434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6C52EEA-0F04-4875-8047-CAE02F48D7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D9DFE70-F7A5-4071-81E0-C1A0F35CD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72752-E4FF-4EAF-B4BB-B6FF38154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D9106-D8E0-4B81-967E-3C8FD2542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D769885-05D9-40B2-B0D1-AD097ECE12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F700EEE-04BA-403B-899F-D0460457EC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2645-DBE3-4020-867C-B1EC8F7D6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43B7C41-9C05-48E3-9F2E-B3D25B1B0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89252CA-E0A9-4E17-8ACC-86F254BBC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F2934-2E67-4E32-8F99-3A8A82CF6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ACBE721-CBDB-46F7-97FB-D264A62DF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340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5FD2962-CBC6-426F-9533-48DC8A02A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5D8-9171-4CD0-832A-7A7A0EE2E9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05A-1D1A-4692-A63F-841B23DDFF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F423-A477-4E5A-B9FE-E376E43143D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E738-7CFE-4568-ABC8-47270EAD74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F0DC-D94A-431E-87BF-16EBF991C1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1B7-8A76-48E0-8621-7CE61E01F3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2203-065E-4CBE-AF9F-D1762FF51D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14F2-693E-4868-BFEB-3C4C2FBB32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E404-FB43-400B-A3C5-F1FFCD5073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BB8F9-A03F-4DAB-9021-E75814859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E2B53-9B33-4F0B-BF0B-4D32536B34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869FA-F032-414D-A1C1-64D64F6B8B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40562-A622-4364-8608-C7B8DA49F0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8716B-3269-43A3-ADAD-702CE5A03E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1BBF3-B5C6-469B-918B-358B910804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59D1E-7338-41C8-A648-2D902DC9DC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5B8F3-70BD-40D3-B4BE-1ACDEB639B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39F94-6C17-4892-8A6C-40D92DDDDD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12B9A-47A0-4AD9-96AE-6FBB1C9FE6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149FE-74B0-4255-ADD8-77BF9436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7496C-6AFB-4945-9FC7-1AD1ACDC57F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4679C-DF4F-4162-85B2-E2FB0A75E5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841E3-B78B-4F3C-90A5-02CE5508AA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EB98C-88E0-4589-9301-837E99D6A3D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BA64A-C9DB-4006-A93A-B940C573BD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D4032-4C9F-44BA-B859-24C5A8D788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7EF7F-F670-4F8C-BE12-1867E7D4D7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7FF2C-4E71-4A6C-99A1-4ED47D9371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9701D-40AD-471A-BF63-BB97B7A06F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FFC49-8DA4-4B97-BD61-406470D7A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40BAF-AB72-424A-BF78-64F6110F9F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5C69C-5EDD-450C-A324-50B7B3EF2E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41F61-2DFE-4A5C-9DE8-0AB0C53ACF8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7C49-098D-430C-AA93-E71D9355B1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252A-7DE3-42AF-9EFA-FDE48D52B9F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1700-B257-4D2B-82EA-8CF4EF5183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6FE0-0F55-43C5-A5F0-B48A232BC1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B646-D0C3-4FB3-8256-66E6F8E038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1BB2-D1F1-4AAB-A529-36AFF58385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BE33-9103-40A4-84C2-3EE1B55B09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F11A-D0CE-4E8F-82CF-D6189BE44B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2408-3CEC-4912-903B-AFE65E8465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667B-CC90-474F-B10B-C408BBC162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48E9-D671-40E3-A7C5-5E2CDB57CE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CA33-E9D1-4FCD-8E7E-21A3BDB4AD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5264-350B-4615-A3B0-0C7BF25671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A641-F1F2-4C81-B318-007481E9BA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2D51-6316-4684-AC14-94E5CFA11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7A8D-0115-43E9-97C6-A52B9B12AA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8729-06B1-4457-8177-2F802317A9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DE7B-DAA3-415F-BA92-A52AAD8890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80D1-4DCC-4E14-A322-35868A60FA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8628-42F4-48AB-9768-B35DB8EEBF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518E-8CAF-45D6-8384-3292AF16AA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D0F4-2A42-4AC0-B8DB-C3D5EA4163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7735-37D7-4B36-A53E-8641405018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A5C-3AE1-4247-939B-7494F1814A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9F4D-9AE2-4814-B8F2-66117057A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083A-AB22-40BC-BC65-AE657D3F3A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485C-9C3F-4DC0-9F9E-AEA13613CC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F8F6-B56C-4A07-B1FF-7F3668A040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72E1-0B4E-44D5-BAB2-38B57DA1A4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9F3D-B3AF-4490-A1BD-C4E61E5EEE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E4CE-2C0B-42AD-BF75-3BB3BA2CF0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0AC5-9528-4D79-BF00-230FF7DB37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97AD-AF3B-4301-A663-5317FA3ADD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C860-1659-4032-A7E2-5CFD27FE4D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2908-3C7E-4E74-86DD-242CC0E3D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D502-C2D3-47C8-AA5B-24443772C7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E67-9320-486E-9AC4-D73045FFD7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DC1-2BEE-4AC6-9B40-268EB9B96B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11B-166A-4A79-96A0-6F85D7505C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75D-8769-4AD0-8A93-CA6D402EB4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332-4BEC-4831-9407-1F10DD3D28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95F-B214-42B6-AC09-E2E79E0F07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F2C-4448-4527-A315-79B0CE52DF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FCC-3924-4CF3-A60C-4C9E8EB8A1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8E8-D739-4296-9705-DD13FE8DF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531-342B-4926-A6F7-AB1E1A880D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C90-A1B7-4775-89A4-9F666A9327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D7C-B322-4565-A194-015206F556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8FC5C-3E59-4293-A2C2-6711AB723E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68FF5-F612-45CD-A958-91D31BCD48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C665F-5CBA-4771-91F7-FB37AD7651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39893-EA57-4A1F-B6E4-B2079AD71E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7AC2E-7801-43B1-86AE-C0753691C8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AFAF0-5C3B-4A44-8E59-0EA29F6989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2617-C93D-4A21-A3FB-AEE393612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C33B-71C9-4228-832B-F14410A9ED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89D7D-BE5C-423A-B41F-968F4AF4F1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7990E-6C56-4A5C-B0A5-DD132ECF49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E181F-A759-41AF-967C-09EE89518D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33AC3-861D-4B11-A02E-50456FD942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D8587-B503-4595-9527-13B09217BB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58E7C-724B-424B-8569-502AE2BCFD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745B-EF94-415A-89A0-E6EE9D0CFF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CDE9-0AA5-4C54-B84E-C4AB66BD7D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27C90-9E01-4314-9303-0E9AED4B8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C192E-6894-457C-BA2B-96DC4614DE8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34462-161C-45E9-9249-9C8FEE23763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B5470-6546-48A4-AA7C-050E832161D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AED8-017D-49CD-BBB5-D3AC2ED4BC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FD7E-A1DA-4BCF-81DA-1AAE75D4A5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08D1A-DB7D-4DB4-A467-284D5C43AEB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7B4BA-D9A1-430B-8DF3-6E9AF0DE76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D3EE-93A0-4FD0-BFC5-817D7F2222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DDB-9174-4736-A4F1-3048C4C32C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E6B-F78C-4612-9996-51778719B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0D215-37B3-438D-8A17-017C4057B26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57146-3FFD-4D13-8390-D07AD58D8B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7FA0-27CD-4CF7-B2EA-7C0E68B7752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735120" y="2921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0F777-48E7-4159-A1D8-DAF6A4FD85E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406E2-9D1C-4621-97B8-8DFFD370A41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28264-9B7A-4BDF-B6F4-353785145A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DEF4F-C455-46C2-8DE6-3AD2E2DB8FF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6E774-5D95-41A1-B574-59C98D46020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2"/>
          <a:stretch/>
        </p:blipFill>
        <p:spPr>
          <a:xfrm>
            <a:off x="0" y="-66600"/>
            <a:ext cx="9377280" cy="69818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lack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venir Book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52A65-6218-406C-99AD-3A30971F1BC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-219240" y="5535720"/>
            <a:ext cx="43974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554040" y="55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1440000" y="2185920"/>
            <a:ext cx="7414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655640" y="2376360"/>
            <a:ext cx="633600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176720" y="5919840"/>
            <a:ext cx="38480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elipe Martins de Azevedo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itular da 22ª Promotoria de Justiça da Capita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estre em Direito, Estado e Sociedade pela UFS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zevedo@mpsc.mp.b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6360" y="1680840"/>
            <a:ext cx="82231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OGÍSTICA REVERSA DAS EMBALAGENS DE VIDRO. IMPORTÂNCIA DAS NORMAS LEGAIS APLICÁVEIS E DIFICULDADES DA SUA IMPLEMENTAÇÃO. GESTÃO DA COLETA DOS RESÍDUOS DE VIDRO PELO MUNICÍPIO DE FLORIANÓPOLIS E PELA AUTARQUIA DE MELHORAMENTOS DA CAPITAL (COMCAP): UMA BOA PRÁTICA A SER APERFEIÇOADA, AMPLIADA E REPLICADA</a:t>
            </a:r>
            <a:endParaRPr b="0" lang="en-US" sz="2400" spc="-1" strike="noStrike">
              <a:solidFill>
                <a:srgbClr val="7f7f7f"/>
              </a:solidFill>
              <a:latin typeface="Avenir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 – NECESSIDADE DE ATUAÇÃO DO MINISTÉRIO PÚBLICO PARA A IMPLEMENTAÇÃO DO SISTEMA DE LOGÍSTICA REVERSA, COM A IDENTIFICAÇÃO DAS PRIORIDAD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.1 – REALIDADE FÁTICA DIVERSA DA PREVISTA NAS NORMAS LEGAI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.2 – IDENTIFICAÇÃO DAS PRIORIDADES, A PARTIR DOS MATERIAIS E RESÍDUOS NÃO ATENDIDOS PELOS SISTEMAS DE LOGÍSITICA REVERSA, DE ACORCO COM REALIDADE LOC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457200" y="274680"/>
            <a:ext cx="822492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 – JUSTIFICATIVAS PARA A ESCOLHA DAS EMBALAGENS DE VIDRO:</a:t>
            </a:r>
            <a:endParaRPr b="0" lang="en-US" sz="18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1 – INEXISTÊNCIA DOS SISTEMAS DE LOGÍSTICA REVERSA NA MAIOR PARTE DO TERRITÓRIO NACIONAL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2 – RISCOS DE ACIDENTES DE TRABALHO E DE DANOS À SAÚDE DOS GARIS E TRIADORES DESTES RESÍDUO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3 – DANOS POTENCIAIS AOS CAMINHÕES DE COLETA DE RESÍDUOS SÓLIDOS, QUE UTILIZAM PRENSA, NAS HIPÓTESES DE NÃO SEPARAÇÃO DOS VIDROS DOS DEMAIS MATERIAIS COLETADOS - Custos de manutenção e tempo de parada do coletor para a execução dos reparos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ÍVEIS DANOS AMBIENTAIS – O vidro pode cortar as borrachas de vedação dos caminhões compactadores, ocasionando o derramamento do chorume nas vias públicas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4 – MATERIAL INERTE – Reduz a vida útil do aterro sanitário, pois não se decompõe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5 – MATERIAL 100% REAPROVEITÁVEL – Pode ser reciclado inúmeras vezes e utilizado em até 80% da composição da mistura dos novos produtos, reduzindo tanto problemas ambientais decorrentes da extração de novos produtos naturais, como areia, carbonato de sódio, calcário, etc., quanto o consumo de energia no processo de fusão de novos materiais, no seu processo de fabricação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 – REALIDADE DOS SISTEMAS DE LOGÍSTICA REVERSA DE VIDROS NA GRANDE FLORIANÓPOL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4.1 – OS OBRIGADOS NÃO CUMPREM COM AS SUAS RESPONSABILIDAD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alhoç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 – Coleta e disposição de resíduos por empresa contratada. Em junho de 2019, possuía somente 2% dos resíduos incluídos na coleta seletiva (atualmente atinge 40%). Não possuía registros sobre o descarte dos vidros em geral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Possui legislação dispondo sobre a Política Municipal de Gestão dos Resíduos Sólidos, que não trata da logística reversa das embalagens de vidr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ão José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 – Coleta e disposição de resíduos por empresa contratada. Ecopontos para o descarte de materiais recicláveis, mas sem local específicos para vidro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Está em fase de estudos a elaboração de uma legislação específica dispondo sobre as responsabilidades dos grandes geradores dos resíduos de vidr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Biguaç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– Os grandes supermercados não possuem locais de coleta de embalagens vazias de vidro. O Município possui a coleta e a disposição de resíduos sólidos e recicláveis (90% do território) por duas empresas contratadas. Os resíduos de vidros são depositados em recipientes próprios no galpão de reciclagem, para o posterior envio à empresa especializada na sua reciclagem. A Fundação Municipal de Meio Ambiente (FAMABI) possui o cadastro dos grandes geradores de resíduos da logística reversa, mas estes não cumprem com as suas obrigações, pois entendem que este é um custo do produto que deve ser repassado, preferindo deixar para os que os órgãos públicos façam a gestão, encarecendo os custos público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 Prefeito encaminhou projeto de lei à Câmara Municipal, no final de maio de 2020, dispondo sobre a logística reversa no Município, incluindo os resíduos de vidro, com a previsão dos obrigados e das sanções cabívei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482760" y="1449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Florianópoli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 – Todas as etapas do sistema de logística reversa de vidros está sendo realizada pelo poder público municipal, com a participação eventual e pontual do setor empresarial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A coleta seletiva é realizada por uma Autarquia Municipal, a COMCAP, atingindo 100% dos bairros e 90% dos endereços, desde 2013. No sistema de coleta porta a porta, o vidro é acondicionado em tambores de 200l, no caminhão de coleta de recicláveis, mas este será substituído em breve por dois caminhões exclusivos para a coleta de vidros, cujo procedimento de aquisição está em andament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A COMCAP também disponibiliza 6 ecopontos para o descarte de resíduos de resíduos de vidr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Pontos de Entrega Voluntária – PEVs exclusivos de vidro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Iniciado em dezembro de 2014, em junho de 2019 contava com 29 pontos de coleta espalhados pela cidad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Atualmente, são 91 PEVs instalados, dos quais apenas 21 foram doados pela iniciativa privada, através do Programa de Doação de Mobiliário Urbano para Implantação dos Pontos de Entrega Voluntária – PEVs, criado em 2016 e atualmente regulado pelo Decreto Municipal 20.309/2019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1440000" y="863640"/>
            <a:ext cx="6264000" cy="4824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"/>
          <p:cNvSpPr/>
          <p:nvPr/>
        </p:nvSpPr>
        <p:spPr>
          <a:xfrm>
            <a:off x="2519280" y="5737320"/>
            <a:ext cx="4392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magem extraída do Inquérito Civil n. 06.2019.00002616-4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38040" y="1092240"/>
            <a:ext cx="3444840" cy="4433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3887640" y="2365200"/>
            <a:ext cx="4896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" descr=""/>
          <p:cNvPicPr/>
          <p:nvPr/>
        </p:nvPicPr>
        <p:blipFill>
          <a:blip r:embed="rId1"/>
          <a:stretch/>
        </p:blipFill>
        <p:spPr>
          <a:xfrm>
            <a:off x="792000" y="1440000"/>
            <a:ext cx="7560000" cy="40320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2"/>
          <p:cNvSpPr/>
          <p:nvPr/>
        </p:nvSpPr>
        <p:spPr>
          <a:xfrm>
            <a:off x="2664000" y="5543640"/>
            <a:ext cx="41763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magem extraída do Inquérito Civil n. 06.2019.00002616-4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78000" y="1001880"/>
            <a:ext cx="3819240" cy="5214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"/>
          <p:cNvPicPr/>
          <p:nvPr/>
        </p:nvPicPr>
        <p:blipFill>
          <a:blip r:embed="rId2"/>
          <a:stretch/>
        </p:blipFill>
        <p:spPr>
          <a:xfrm>
            <a:off x="4464000" y="2160720"/>
            <a:ext cx="44640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31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 – ENTIDADES REPRESENTATIVAS DO SETOR EMPRESARIAL RESPONSÁVEL PELA LOGÍSTICA REVERSA DOS RESÍDUOS DE VIDRO</a:t>
            </a:r>
            <a:endParaRPr b="0" lang="en-US" sz="18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ndicato Nacional da Indústria da Cerveja (AMBEV e HEINEKEN)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ATS – Associação Catarinense de Supermercado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RASEL – Associação Brasileira de Bares e Restaurante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IH-SC – Associação Brasileira da Indústria de Hotéis de Santa Catarina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IEPS – Associação Brasileira das Empresas de Postos de Combustíveis e Conveniência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IVIDRO – Associação Brasileira das Indústrias de Vidro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ESC – Federação das Indústrias do Estado de Santa Catarina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DL – Câmara de Dirigentes Lojistas de Florianópoli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EMFLO – Associação Empresarial da Região Metropolitana de Florianópoli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RABE – Associação Brasileira de Bebidas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"/>
          <p:cNvSpPr/>
          <p:nvPr/>
        </p:nvSpPr>
        <p:spPr>
          <a:xfrm>
            <a:off x="593640" y="3440160"/>
            <a:ext cx="7721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7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851040" y="1660680"/>
            <a:ext cx="787716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.1 – Conceito de logística reversa – art. 3º, inc. XI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Instrumento de desenvolvimento econômico e social caracterizado por um conjunto de ações, procedimentos e meios destinados a viabilizar a coleta e a restituição dos resíduos sólidos ao setor empresarial, para reaproveitamento, em seu ciclo ou em outros ciclos produtivos, ou outra destinação final ambientalmente adequad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98600" y="6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1 – EMBASAMENTO – LEI DA POLÍTICA NACIONAL DOS RESÍDUOS SÓLIDOS – Lei Federal n. 12.305/2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6360" y="12492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andes geradores locais de resíduos de vidro:</a:t>
            </a:r>
            <a:br>
              <a:rPr sz="1800"/>
            </a:br>
            <a:endParaRPr b="0" lang="en-US" sz="18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7600" y="14400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permercados; Shopping Centers; Boates e Casas Noturnas; Bares; Restaurantes; Hotéis; Lojas de conveniência; Vidraçarias; e Condomínios.</a:t>
            </a: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417600" y="2952720"/>
            <a:ext cx="4119480" cy="2879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2"/>
          <a:stretch/>
        </p:blipFill>
        <p:spPr>
          <a:xfrm>
            <a:off x="4680000" y="295272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3024360" y="5904000"/>
            <a:ext cx="388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eta seletiva em condomínio de Florianópoli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31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 – IMPACTOS ECONÔMICOS DA LOGÍSTICA REVERSA DOS RESÍDUOS DE VIDRO</a:t>
            </a:r>
            <a:endParaRPr b="0" lang="en-US" sz="1800" spc="-1" strike="noStrike">
              <a:solidFill>
                <a:srgbClr val="7f7f7f"/>
              </a:solidFill>
              <a:latin typeface="Avenir Black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1225440" y="1943280"/>
            <a:ext cx="6696360" cy="3958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" descr=""/>
          <p:cNvPicPr/>
          <p:nvPr/>
        </p:nvPicPr>
        <p:blipFill>
          <a:blip r:embed="rId1"/>
          <a:stretch/>
        </p:blipFill>
        <p:spPr>
          <a:xfrm>
            <a:off x="1465200" y="1587600"/>
            <a:ext cx="6359760" cy="3524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" descr=""/>
          <p:cNvPicPr/>
          <p:nvPr/>
        </p:nvPicPr>
        <p:blipFill>
          <a:blip r:embed="rId1"/>
          <a:stretch/>
        </p:blipFill>
        <p:spPr>
          <a:xfrm>
            <a:off x="1533600" y="1592280"/>
            <a:ext cx="6311880" cy="323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1596960" y="2016000"/>
            <a:ext cx="6018120" cy="293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" descr=""/>
          <p:cNvPicPr/>
          <p:nvPr/>
        </p:nvPicPr>
        <p:blipFill>
          <a:blip r:embed="rId1"/>
          <a:stretch/>
        </p:blipFill>
        <p:spPr>
          <a:xfrm rot="60000">
            <a:off x="1528920" y="1871280"/>
            <a:ext cx="6087960" cy="286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" descr=""/>
          <p:cNvPicPr/>
          <p:nvPr/>
        </p:nvPicPr>
        <p:blipFill>
          <a:blip r:embed="rId1"/>
          <a:stretch/>
        </p:blipFill>
        <p:spPr>
          <a:xfrm>
            <a:off x="1224000" y="1943280"/>
            <a:ext cx="669600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>
            <a:off x="1362240" y="1862280"/>
            <a:ext cx="64087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" descr=""/>
          <p:cNvPicPr/>
          <p:nvPr/>
        </p:nvPicPr>
        <p:blipFill>
          <a:blip r:embed="rId1"/>
          <a:stretch/>
        </p:blipFill>
        <p:spPr>
          <a:xfrm>
            <a:off x="1368360" y="1655640"/>
            <a:ext cx="6480360" cy="3170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1"/>
          <p:cNvSpPr/>
          <p:nvPr/>
        </p:nvSpPr>
        <p:spPr>
          <a:xfrm>
            <a:off x="528480" y="792000"/>
            <a:ext cx="832644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ssibilidade de obtenção de renda para as Cooperativas de Triagem de Resíduos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alor atual – 2020 - de venda da tonelada dos resíduos de vidro – R$ 230,00 (R$ 0,23 por Kg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2018, o valor da tonelada era de R$ 70,00 (R$ 0,07 por Kg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Florianópolis, estes materiais são comercializados por uma Cooperativa de Catador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Materiais Recicláveis, que partilha a renda obtida com os triadores/catadore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93640" y="3440160"/>
            <a:ext cx="7721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7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rt. 8º São instrumentos da Política Nacional de Resíduos Sólidos, entre outros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Calibri"/>
              </a:rPr>
              <a:t>[...]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III - a coleta seletiva, os sistemas de logística reversa e outras ferramentas relacionadas à implementação da responsabilidade compartilhada pelo ciclo de vida dos produtos; [...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165240"/>
            <a:ext cx="82231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1.2 – A logística reversa é um dos instrumentos da Política Nacional dos Resíduos Sólidos – art. 8º, inc. III, da Lei Federal n. 12.305/2010</a:t>
            </a:r>
            <a:endParaRPr b="0" lang="en-US" sz="1800" spc="-1" strike="noStrike">
              <a:solidFill>
                <a:srgbClr val="7f7f7f"/>
              </a:solidFill>
              <a:latin typeface="Avenir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457200" y="274680"/>
            <a:ext cx="822312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7 – DESAFIOS PARA INSERIR OS RESPONSÁVEIS/INICIATIVA PRIVADA N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STEMAS DE LOGÍSTICA REVERSA DE RESÍDUOS DE VIDR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8 – PROPOSTAS DE SOLUÇÃ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Celebração de Termo de Compromisso pelo poder público municipal com o seto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presari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Celebração de TAC entre o Ministério Público, o poder público municipal e as entida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presentativas do setor empresari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Autuação administrativa – arts. 70 e seguintes da Lei n. 9.605/98, c/c o art. 51 da Le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2.305/2010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Ajuizamento de Ação Civil Pública contra o Município e os grandes geradores de resíduos de vidro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516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Criação de Cooperativas intermunicipai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482760" y="12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rt. 33. São obrigados a estruturar e implementar sistemas de logística reversa, mediante retorno dos produtos após o uso pelo consumidor, de forma independente do serviço público de limpeza urbana e de manejo dos resíduos sólidos,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s fabricantes, importadores, distribuidores e comerciantes d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 (Regulamento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 - agrotóxicos, seus resíduos e embalagens, assim como outros produtos cuja embalagem, após o uso, constitua resíduo perigoso, observadas as regras de gerenciamento de resíduos perigosos previstas em lei ou regulamento, em normas estabelecidas pelos órgãos do Sisnama, do SNVS e do Suasa, ou em normas técnicas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 - pilhas e baterias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I - pneus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V - óleos lubrificantes, seus resíduos e embalagens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- lâmpadas fluorescentes, de vapor de sódio e mercúrio e de luz mista; VI - produtos eletroeletrônicos e seus componentes. (Regulamento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048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§ 1º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a forma do disposto em regulamento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u em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acordos setoriai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e termos de compromisso firmados entre o poder público e o setor empresarial,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s sistemas previstos no caput serão estendidos a produtos comercializados em embalagen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ásticas, metálicas ou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de vidr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e aos demais produtos e embalagens, considerando, prioritariamente, o grau e a extensão do impacto à saúde pública e ao meio ambiente dos resíduos gerados. (Regulamento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1.3 – Sujeitos obrigados a estruturar sistemas de logística reversa – materiais e resíduos abrangidos - art. 33 da Lei Federal n. 12.305/2010</a:t>
            </a:r>
            <a:endParaRPr b="0" lang="en-US" sz="1600" spc="-1" strike="noStrike">
              <a:solidFill>
                <a:srgbClr val="7f7f7f"/>
              </a:solidFill>
              <a:latin typeface="Avenir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601560" y="1565280"/>
            <a:ext cx="812664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– O ACORDO SETORIAL DE LOGÍSTICA REVERSA DE EMBALAGENS – Assinado em 25/11/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m por objetivo garantir a destinação final ambientalmente adequada das embalagen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s embalagens objeto do acordo setorial podem ser compostas de papel e papelão, plástico, alumínio, aço, vidro, ou ainda pela combinação destes materiais, como as embalagens cartonadas longa vida, por exemplo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m sua fase inicial,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s ações do sistema se concentrarão nas cidades e regiões metropolitanas de Belo Horizonte, Cuiabá, Curitiba, Distrito Federal, Fortaleza, Manaus, Natal, Porto Alegre, Recife, Rio de Janeiro, Salvador e São Paul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Responsável pelo cumprimento do Acordo Setorial: Coalizão Embalagens, formada em 2012, que é o grupo de 14 organizações representativas do setor empresarial de embalagens que, em 2015, assinou o acordo setorial federal para implantação do Sistema de Logística Reversa de Embalagens em Geral de Produtos não Perigosos. Esse acordo é um compromisso para implementar a logística reversa no Brasil e atender à Política Nacional de Resíduos Sólido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274680"/>
            <a:ext cx="822492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Segoe UI"/>
              </a:rPr>
              <a:t>As obrigações previstas no Acordo Setorial também foram estendidas para os não signatários do Acordo ou de termo de compromisso firmado com a União, pelo Decreto Federal n. 9.177/2017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Segoe UI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Segoe UI"/>
              </a:rPr>
              <a:t>[...] Art. 2º Os fabricantes, os importadores, os distribuidores e os comerciantes de produtos, seus resíduos e suas embalagens aos quais se refere o caput do art. 33 da Lei nº 12.305, de 2 de agosto de 2010, e de outros produtos, seus resíduos ou suas embalagens objeto de logística reversa na forma do § 1º do referido artigo, não signatários de acordo setorial ou termo de compromisso firmado com a União, são obrigados a estruturar e implementar sistemas de logística reversa, consideradas as mesmas obrigações imputáveis aos signatários e aos aderentes de acordo setorial firmado com a Uniã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Segoe UI"/>
              </a:rPr>
              <a:t>§ 1º As obrigações a que se refere o caput incluem os dispositivos referentes às etapas de operacionalização, aos prazos, às metas, aos controles e aos registros da operacionalização dos sistemas de logística reversa, aos planos de comunicação, às avaliações e aos monitoramentos dos sistemas, às penalidades e às obrigações específicas imputáveis aos fabricantes, aos importadores, aos distribuidores e aos comerciant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Segoe UI"/>
              </a:rPr>
              <a:t>[...]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Segoe UI"/>
              </a:rPr>
              <a:t>Art. 3º Os fabricantes, os importadores, os distribuidores e os comerciantes de que trata o art. 2º poderão firmar termo de compromisso com a União para implementação de sistema de logística reversa próprio, nos termos do disposto na Lei nº 12.305, de 2010 , e no Decreto nº 7.404, de 23 de dezembro de 2010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611280" y="620640"/>
            <a:ext cx="822960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.5 – AS RESPONSABILIDADES PELA IMPLANTAÇÃO E OPERACIONALIZAÇÃO DO SISTEMA DA LOGÍSTICA REVERSA – art. 33, §§3º até 6º, da Lei Federal 12.305/2010</a:t>
            </a:r>
            <a:endParaRPr b="0" lang="en-US" sz="1400" spc="-1" strike="noStrike">
              <a:solidFill>
                <a:srgbClr val="7f7f7f"/>
              </a:solidFill>
              <a:latin typeface="Avenir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§ 3º Sem prejuízo de exigências específicas fixadas em lei ou regulamento, em normas estabelecidas pelos órgãos do Sisnama e do SNVS, ou em acordos setoriais e termos de compromisso firmados entre o poder público e o setor empresarial, cabe aos fabricantes, importadores, distribuidores e comerciantes dos produtos a que se referem os incisos II, III, V e VI ou dos produtos e embalagens a que se referem os incisos I e IV do caput e o §1o tomar todas as medidas necessárias para assegurar a implementação e operacionalização do sistema de logística reversa sob seu encargo, consoante o estabelecido neste artigo, podendo, entre outras medidas: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 - implantar procedimentos de compra de produtos ou embalagens usados;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I - disponibilizar postos de entrega de resíduos reutilizáveis e recicláveis;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II - atuar em parceria com cooperativas ou outras formas de associação de catadores de materiais reutilizáveis e recicláveis, nos casos de que trata o § 1o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§ 4º Os consumidores deverão efetuar a devolução após o uso, aos comerciantes ou distribuidores, dos produtos e das embalagens a que se referem os incisos I a VI do caput, e de outros produtos ou embalagens objeto de logística reversa, na forma do § 1o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§ 5º Os comerciantes e distribuidores deverão efetuar a devolução aos fabricantes ou aos importadores dos produtos e embalagens reunidos ou devolvidos na forma dos §§ 3o e 4o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  <a:p>
            <a:pPr marL="29160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§ 6º Os fabricantes e os importadores darão destinação ambientalmente adequada aos produtos e às embalagens reunidos ou devolvidos, sendo o rejeito encaminhado para a disposição final ambientalmente adequada, na forma estabelecida pelo órgão competente do Sisnama e, se houver, pelo plano municipal de gestão integrada de resíduos sólidos.</a:t>
            </a:r>
            <a:endParaRPr b="0" lang="en-US" sz="1400" spc="-1" strike="noStrike">
              <a:solidFill>
                <a:srgbClr val="7f7f7f"/>
              </a:solidFill>
              <a:latin typeface="Avenir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806400" y="1650960"/>
            <a:ext cx="7880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6 – POSSIBILIDADE DA REALIZAÇÃO DAS ATIVIDADES DO SISTEMA DE LOGÍSTICA REVERSA PELO PODER PÚBLICO,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DIANTE REMUNERAÇ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33, §7º, da Lei Federal 12.305/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[...]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§ 7º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e o titular do serviço público de limpeza urbana e de manejo de resíduos sólido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, por acordo setorial ou termo de compromisso firmado com o setor empresarial,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ncarregar-se de atividades de responsabilidade dos fabricantes, importadores, distribuidores e comerciantes nos sistemas de logística revers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dos produtos e embalagens a que se refere este artigo, </a:t>
            </a: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 ações do poder público serão devidamente remunerad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, na forma previamente acordada entre as partes. (grifo noss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1.7 – POSSIBILIDADE DE INSTITUIÇÃO DE MEDIDAS DE ESTÍMULO ECONÔMICO PARA A ESTRUTURAÇÃO DOS SISTEMAS DE LOGÍSTICA REVERSA – art. 42, inc. V, da Lei Federal n. 12.305/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rt. 42. O poder público poderá instituir medidas indutoras e linhas de financiamento para atender, prioritariamente, às iniciativas de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 - estruturação de sistemas de coleta seletiva e de logística reversa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8:47:28Z</dcterms:created>
  <dc:creator>COMSO03 .</dc:creator>
  <dc:description/>
  <dc:language>en-US</dc:language>
  <cp:lastModifiedBy>Felipe Martins de Azevedo</cp:lastModifiedBy>
  <cp:lastPrinted>2013-04-02T20:40:32Z</cp:lastPrinted>
  <dcterms:modified xsi:type="dcterms:W3CDTF">2020-11-26T16:50:28Z</dcterms:modified>
  <cp:revision>134</cp:revision>
  <dc:subject/>
  <dc:title>PowerPoint Presentation</dc:title>
</cp:coreProperties>
</file>